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330-8FF6-4269-8304-842D020D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3F4-5DA3-4679-A984-9249681C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B65-01CD-4F62-9649-590F06D8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F8C-D674-422F-B4FC-29ED13EA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253-F99E-481A-8D65-D424A793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94C-CF6C-4E8F-A8A9-57253089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D5B-0354-4318-937B-AFD022BB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9E2E-6F02-4366-903C-DB9E1259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807-4EE8-4F7B-8EE5-194085B0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AE5-921F-40CB-B155-57044C7A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055-8CEC-4440-8DB4-1805EEA1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C1F-E701-4A23-A01E-03C6C94F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6AFB-67F4-41DB-92C9-36AEDC4D986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0" y="6336000"/>
            <a:ext cx="9144000" cy="520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7f7f7f"/>
                </a:solidFill>
                <a:latin typeface="Arial Narrow"/>
                <a:ea typeface="Times New Roman"/>
              </a:rPr>
              <a:t>ŽSV odgoj  za ljudska prava i demokratsko građanstvo ( 3-11-09): </a:t>
            </a:r>
            <a:r>
              <a:rPr b="0" lang="hr-HR" sz="1400" spc="-1" strike="noStrike">
                <a:solidFill>
                  <a:srgbClr val="bfbfbf"/>
                </a:solidFill>
                <a:latin typeface="Arial Narrow"/>
                <a:ea typeface="Times New Roman"/>
              </a:rPr>
              <a:t>Razvijanje temeljnih kompetencija i uvođenje sustava upravljanja kvalitetom u odgojno – obrazovni rad učeničkih dom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zoo.hr/" TargetMode="External"/><Relationship Id="rId2" Type="http://schemas.openxmlformats.org/officeDocument/2006/relationships/hyperlink" Target="http://www.mzos.hr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nevenka.loncaric-jelacic@azoo.hr" TargetMode="External"/><Relationship Id="rId2" Type="http://schemas.openxmlformats.org/officeDocument/2006/relationships/hyperlink" Target="http://www.azoo.hr/projekti/nacionalni" TargetMode="External"/><Relationship Id="rId3" Type="http://schemas.openxmlformats.org/officeDocument/2006/relationships/hyperlink" Target="http://ec.europa.eu/education/index_en.htm" TargetMode="External"/><Relationship Id="rId4" Type="http://schemas.openxmlformats.org/officeDocument/2006/relationships/hyperlink" Target="http://www.coe.int/T/E/Cultural_Co-operation/educatio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Osnovne odrednice Kurikuluma građanskog odgoja i obrazovanja (GOO-a) i mogućnosti njegova integriranja u plan i program škole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venka Lončarić Jelač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iša savjetnica za nacionalne prog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Agencija za odgoj i obrazo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o učenici dobivaju Građanskim odgojem i obrazovanj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o, da nauče elementarne stvari o demokraciji te koja je njihova društvena uloga u takvom poretku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je prema teoretičarima društvenog ugovora ishodište demokracije u dogovoru ljudi da stvore vlast koja bi njima upravljala i zaštitila njihova prirodna prav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John Locke "Dvije rasprave o građanskoj vlasti", 1690. i drugi filozifi);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ovim ugovorom ljudi pristaju na poštovanje zakona koje je donijela vlast, ali i pokreću postupke izmjene ako nisu praved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iz društvenog ugovora proizlazi određenje demokracije pr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emu se demokratska vlast može definirati kao tip vlas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o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i imaju pravo vladat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oj građani daju vlast onima koje biraju da ih predstavljaju i služe njihovim interesim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oj su ti predstavnici dužni razvijati zajedničko dobr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hvate kako iz društvenog ugovora proizlazi temelj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đanska vrl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i da su ljudi u stanju držati 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vnotež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bni interes i zajedničko dobr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aznaju što je socijalna solidarnost i zašto je ona temelj socijalnog prava i radnog prav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je socijalno pravo ili pravo socijalne dobrobiti skup pravnih normi preko kojih država ostvaruje svoju funkciju ravnoteže i ublažavanja socijalnih razlika s ciljem da se osigura jednakost situacij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e time uspostavlja zajednički društveni cilj –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akost ljudi u dostojanstvu i pravima što je uređeno  državnim javnopravnim normam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u društvu kada oslabe moralne norme ili se potpuno izgube  slabi socijalna solidarnost a povećava se broj kriminala, samoubojstava, štrajkova i drugih društvenih nedać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 Durkhai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nauče što je društvena pravda i pravednost, što su distributivna, proceduralna i korektivna pravda i zašto su one srž vladavine prav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njihovi učitelji i odgojitelji znaju, ukoliko od najranije dobi ne odgajaju i obrazuju za takve vrijednosti, za razumijevanje i prihvaćanje biti takvih koncepata da ih nećemo imati u društvu, da nećemo imati demokratske građanske kulture, jer čovjek se ne rađa s demokratskim građanskim znanjima i vrlinama nego ih treba učiti, vježbati i razvijati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ologija razvoja građanske kompetencije je spiralno-razvojno postavlj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Građanska kompetencija obuhvać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funkcionalnu dimenziju koja se sastoji od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nanja i razumijevanj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ještina i sposobnosti 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rijednosti i stavo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strukturnu dimenziju koja se sastoji od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ljudsko-pravn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olitičk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društven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ulturološk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gospodarsk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ekološk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4. razred O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trukturne dimenzije GOO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Ljudsko-pravn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stojanstvo osobe, ljudska prava, slobode i odgovornosti u sklopu razreda, škole i lokalne zajed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vnopravnost  u odnosu na dob i spol te etničke, nacionalne, vjerske, rasne i druge razli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ćeprihvaćena pravila i pravne norme kao instrumenti zaštite prava uče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zbijanje ponižavajućeg i nepoštenog ponašan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Političk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ktivno i odgovorno građanstvo kao temelj razvoja demokr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mokratsko upravljanje razredom, školom i lokalnom zajedni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djelovanje u demokratskom upravljanju (kandidiranje i izb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traživanje i rješavanje problema razredne, školske i lokalne zajed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štvena;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ruštvene komunikacijske vješ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ravljanje emocija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ravljanje sukobi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mski r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olontiranje i društvena solidar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ulturološk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oj  osobnog, zavičajnog, većinskog  i manjinskih nacionalnih identiteta te domovinskog identite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kulturna osjetljivost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kulturni dijalo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Gospodarsk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dgovorno gospodarstvo, poduzetnost i poduzetništv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avo na učenje za konkurentnost na tržištu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aštita potrošač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Ekološk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živi razvoj i lokalna zajed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ionalno i odgovorno trošenje prirodnih resur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st građana za održivi razvo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8. razred O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judsko-pravn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stojanstvo osobe, ljudska prava, slobode i odgovornosti u kontekstu ustavnih i zakonskih odredbi Republike Hrvats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vnopravnost  u odnosu na dob, spol, te etničku, vjersku, klasnu i drugu pripadnost, rasu i druge razlik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štivanje vladavine 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zbijanje neljudskog, ponižavajućeg i nepošteno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oruptivnog ) ponaš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zbijanje društvene isključenosti i drugih oblika diskriminacije pojedin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građanskog odgoja i obrazovanja u hrvatskom odgojno-obrazovnom sustavu od 1999. do 2012. godi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55736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. godine Vlada Republike Hrvatske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osi prvi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onalni program odgoja i obrazovanja za ljudska prav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kom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l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lasa: 004-01/99-01/05, urbroj: 503018-99-17, od 14. listopada 1999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vez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istarstvo znanosti, obrazovanja i sport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njegovu primje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edba toga programa ostala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dobrovoljnoj osnovi sve do ove, 2012. godine, kada je dovršen novi Kurikulum građanskog odgoja i obrazovanj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ar je donio odluku o njegovoj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sperimentaln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db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jekom proteklog desetljeća razvijeni su brojni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jeri dobre prakse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su, između ostalog, omogućili razvoj ovog Kurikulu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 broj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onaln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od njih 3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griran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odgojno-obrazovni sustav kroz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j i obrazo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čk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i demokr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vlast i demokratsko upravljanje držav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sudjelovanje građana u demokratskom upravljanju na lokalnoj i nacionalnoj razini (kandidiranje i izb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istraživanje i rješavanje problema lokalne i nacionalne zajed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štven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ruštvene komunikacijske vješ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mski r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ravljanje emocija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ravljanje sukob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olontiranje i  razvoj socijalne solidar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turološk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oj  osobnog, zavičajnog, većinskog  i manjinskih nacionalnih  identiteta kao dio hrvatskog domovinskog identite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kulturna osjetljivo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kulturni dijalo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ještavanje i uklanjanje stereotipa i predrasu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spodarska;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dgovorno gospodarstvo, poduzetnost i poduzetništv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avo i odgovornosti u očuvanju i raspolaganju nacionalnim bogatstv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avo na učenje za konkurentnost na tržištu i planiranje profesionalnog razvo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a potrošač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ološk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vne odredbe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pravu  na zdravi okoli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drživi razvoj Republike Hrvats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loga građana u održivom razvo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a šk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judsko-pravn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stojanstvo osobe, ljudska prava , slobode i odgovornosti u nacionalnom, europskom i međunarodnom pravnom sustav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vnopravnost  u odnosu na dob, spol, te etničku, vjersku, klasnu i drugu pripadnost, rasu i druge razlik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ladavina prava i zaštita ljudskih 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zbijanje neljudskog, ponižavajućeg i nepošteno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oruptivnog ) ponašan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zbijanju društvene isključenosti na različitim razin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čka;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dređenje i značaj demokr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last i demokratsko upravljanje, razred, škola, lokalna zajednica, država, Europska unija, međunarodna zajed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djelovanje građana u demokratskom upravljanj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traživanje i rješavanje problema od školske do međunarodne raz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zbijanje neljudskog, ponižavajućeg i nepoštenog - koruptivnog  ponaš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zbijanje društvene isključenosti i drugih oblika diskriminacije pojedinca na nacionalnoj, europskoj i međunarodnoj raz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štven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ruštvene komunikacijske vješ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mski r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ravljanje grupnim rad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ravljanje emocija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ravljanje sukob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olontiranje i  razvoj socijalne solidar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turološk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zvoj  osobnog, zavičajnog, većinskog  i manjinskih nacionalnih  identiteta kao dijela hrvatskog domovinskog identiteta te europskog i globalnog identite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terkulturna  osjetljivost, komunikacija i dijalo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svještavanje i uklanjanje stereotipa i predras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spodarsk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dgovorno gospodarstvo, poduzetnost i poduzetništv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avo na r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avo na učenje za konkurentnost na tržištu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aštita i moć potrošača, utjecaj na proizvodnju, tržište i društvo potrošnj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ološk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živi razvoj Hrvatske, Europe i svij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loga građana u održivom razvoju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i za izradu izvedbenog plana i programa GOO-a (nastavne jedinice, izvan-nastavne aktivnosti, projekta)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Naziv aktivnosti (nastavne jedinice,  INA, projekt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pr. Demokratski izbori u razre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Svrha aktiv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ktivan i odgovoran građan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Ishodi ( završni ciljevi) aktiv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čenik/učenica zna što su demokratski izbori u razred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spravno koristi intelektualne alate za procjenu položaja vla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 sudjeluje u izbor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le u uzorku za eksperimentalno provođenje Kurikuluma GOO-a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A projekt i MM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Ivan Goran Kovačić, Petrinj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„Ivan Goran Kovačić“, Duga Res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Siniše Glavaševića, Vukovar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„Ivan Goran Kovačić“, Velik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onomska i turistička škola, Daruvar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a škola Obrovac, Obrova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ka o eksperimentalnom provođenju Kurikuluma GOO-a i Kurikulum nalaze se na </a:t>
            </a:r>
            <a:r>
              <a:rPr b="0" lang="hr-H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azoo.hr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na </a:t>
            </a:r>
            <a:r>
              <a:rPr b="0" lang="hr-H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www.mzos.hr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Kratki opis aktivnosti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. Učiteljica donosi novinski članak o predsjedniku države, daje uvo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2. HJ – Medijska kultura – Film Vlak u snijegu – analiza izbora predsjedni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3. Vježba kritičkog mišljenja i korištenje alata za procjenu položaja vlasti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tvrđivanje sposobnosti koje treba imati učenik predsjednik razreda u odnosu na  dužnosti,  ovlasti, povlastice i ograniče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4. HJ- govorna i pismena vježba – korištenje intelektualnih alata za evaluaciju rada prošlogodišnjeg predsjednika razred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5. MAT  - Dijagram (vrline i mane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6. SRO- Nastavni listići   - sve sposobnosti koje treba imati učenik predsjednik razreda u odnosu na dužnosti, ovlasti, povlastice i ograničenja koje  uključuje razmatrani položaj vla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7. SRO- Kandidatura, kampanja, izbo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Ciljna grupa: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čenici četvrtih razreda O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Način provedbe aktivnos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(među-predmetno, izvan-nastavno, projek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eđu-predmet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ci rada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frontalno, rad u paru, grupni r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itanje s razumijevanjem, analiza teksta, filma, kritičko mišljenj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očavanje činjenica, argumentiranje, rasprava, zaključi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Resursi za provođenje aktiv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ekst; “Kako birati ljude na položaje vlasti?”, “Intelektualni alat za procjenu položaja vlasti”(udžbenik za učenike  Osnove demokracije: vlast, pravda, odgovornost, privatnost, tr. 34-36) novinski članak, film “Vlak u snijegu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Vremenik aktiv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skazuje se koliki sati i kada - 5 sati, ruj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Način vrednovanja i korištenja rezultata vrednovanja aktiv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rema uputama u Kurikulumu – razrađuje se skala procjene isho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Troškovnik aktiv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aterijali za redovnu nasta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Nositelji aktivnosti i njihova odgovor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avodi se redni broj  aktivnosti i nastavnik koji će je provesti . Navodi se i učenik kao nositelj odgovor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e učitelja i nastavn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ijekom eksperimentalnog provođenja GOO-a  odgojno-obrazovnim radnicima  bit će pružene mogućnosti da nadopune i usavrše svoje kompetencije kako je to utvrđeno u  Kurikuluma GOO-a u tekstu pod brojem 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5. Kompetencije učitelja i nastavnika za poučavanje i učenje GOO-a i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Kadrovski uvjeti za ostvarivanje GOO-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čitelji su pozvan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ristiti  interaktivne i participativne  metode učenja i poučavanj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irati i osmišljavati nova rješenja za nastavne procese usmjerene prema učeniku i više individualiziranim oblicima učenja - daroviti, djeca s teškoćama, različite sposobnosti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pronalaziti u čemu učenik može biti uspješan, na tome graditi njegovo samopouzdanje, motivaciju i uspjeh u uče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mogućavati prepoznavanje talenata kao uporišta za uspješno učenje i planiranje uspješnog profesionalnog razvo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i ocjenjivanja postignuća učenika u </a:t>
            </a: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oju građanske kompeten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se građanski odgoj i obrazovanje ostvaruje kao izborni ili redoviti predmet podlijež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lniku o praćenju i ocjenjivanju odgojno-obrazovnih postignuća učenika u osnovnoj i srednjoj ško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i ocjenjivanja su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njenično znanje i razumijevanje (znanje 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o i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nje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što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umijevanje pojmova, vrednota, procesa, institucija i zakonitosti koje čine temelj aktivnog i odgovornog građanstva; potvrđuje se imenovanjem, određivanjem, opisivanjem, analizom, tumačenjem, usporedbom, vrednovanjem i zaključivanj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dbeno znanje (znanje 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o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oj i primjena građanskih vještina i sposobnosti prilikom rješavanja problema koji spadaju u područje aktivnog i odgovornog građanstva; potvrđuje se uspješnom primjenom stečenih ili inovativnih znanja i vještina u konkretnoj situacij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ijednosno usmjeren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azumijevanje i prihvaćanje vrednota koje čine temelj aktivnog i odgovornog građanstva; potvrđuje se odgovarajućim obrascima ponašanja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 tri dimenzije znanja u GOO-u  tijesno  su povezane, međusobno su ovisne i vode razvoju građanske kompetencije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koliko se taj proces zbiva u odgovarajućem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olišu učenja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demokratska kultura razreda i škole te otvorenost i suradnja s lokalnom zajednicom)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se građanski odgoj i obrazovanje ostvaruje kao među predmetna tema, modularno, izvan-nastavno u svim razinama odgoja i obrazovanja u eksperimentalnoj fazi se ne ocjenju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jekom eksperimentalne faze provjerit će se više mogućnosti i modela u eksperimentalnim školama, nakon čega će se najprikladniji model ocjenjivanja preporučiti svim škola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aci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64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la izrađuje izvedbeni plan i program (kurikulum) GOO-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iranje njegove proved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rubriku bilježaka u imeniku, upisuje se kratka bilješka da je na određenom satu na integriran način ostvarena tema GOO-a (preklapajuća s predmetnom tem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redna mapa za GO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se GOO ostvaruje među predmetno svi nastavnici unose podatke - kopiju pripreme za nastavnu jedinicu u okviru koje su na integrirani način razvijali građansku kompetenciju kod učenika, najuspješnije uratke učenika, materijale vezano za izvannastavne aktivnosti i projekte i s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čki dnevnik iz GOO-a;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uži samo-evaluaciji učenikovih postignuć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k upisuje u kojim je projektima i aktivnostima sudjelovao, što je tijekom godine izradio u vezi GOO-a, zapažanja, bilješke, osvrti na naučeno, nove ideje i rješenja do kojih je došao, koje su mu vrijednosti važne i s kojim se teškoćama susretao, što želi bolje naučiti,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aže potvrde, priznanja, zahvalnice, učeničke rado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kon eksperimentalne provjere kurikuluma on će postati obvezan za sve šk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O i MZ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„Đuro Ester“, Koprivnic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osnovna škola Čakovec, Čakovec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Pavleka Miškine, Zagreb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škola Matije Gupca, Zagreb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mnazija „Fran Galović“, Koprivnica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a škola Dugo Selo, Dugo Selo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HVALJUJEM  NA  POZORNOSTI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nevenka.loncaric-jelacic@azoo.h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Dodatne informacije, materijal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azoo.hr/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rogr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pširnije na web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ec.europa.eu/education/index_en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coe.int/T/E/Cultural_Co-operation/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rha eksperimentalnog praćenja Kurikuluma GOO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Eksperimentalnu provedbu Kurikulum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-a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sustavno će pratiti i vrjednovati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Agencija za odgoj i obrazovanje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Istraživačko-obrazovni centar za ljudska prava Filozofskog fakulteta Sveučilišta u Zagrebu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onalni centar za vanjsko vrednovanje obrazovanja u suradnji  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arstvom znanosti, obrazovanja i spor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Rezultati dobiveni eksperimentalnom provedbom Kurikuluma  te analize provedenoga praćenja i vrednovanja koristit će se u svrhu donošenja Kurikuluma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-a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a obvezno uvođenje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le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stavnice Kurikuluma GOO-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vir za razvoj kurikuluma GOO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avni pla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O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lementi ocjenjivanja postignuća učenika u razvoju građanske kompeten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Vođenje dokumentacije za praćenje i ocjenjivanje  GOO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e učitelja za poučavanje i učenje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O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rovski uvjeti za ostvarivanje kurikul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O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hodi ostvarivanj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svim razinama osnovne i srednje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vir za razvoj Kurikulu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ju se kratka, jasna i pregledna određenja osnovnih pojmova Kurikulu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rebno je osigurati razumijevanje pojmova kao što su: kompetencija, ishod učenja, postignuć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iti razumijevanje i prihvaćanje da usmjerenost na kompetenciju u obrazovanju znači stavljanje naglaska na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hod ili rezultat učenja, odnosno na učenik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ona uključuje znanja, vještine, vrijednosti, stavove, osobine ličnosti, motivaciju i obrasce ponašanja kojima pojedinac raspolaže i koje po potrebi pokreće kako bi riješio neki problem ili zadat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tna osob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a koja zna i umij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 i koja djeluje u skladu sa svojim znanjima i vještin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zato što mora ili zato što joj to donosi puku materijalnu koris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zato što vjeruje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je takvo djelovanje ispravno i dobro za nju, posao koji obavlja i zajednicu u kojoj živ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umije držati u ravnoteži osobni i zajednički interes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avni plan GOO-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.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azred OŠ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predmetno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an-nastavno:  projekti škole i društvene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jednice u sklopu školskog kurikuluma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UPNO 35 sati godišnje, obvez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8. razred OŠ: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predmetno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an-nastavno: projekti škole i društvene zajednice 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lopu školskog kurikuluma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 mogućnošću izbornog predmeta u 7. i 8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r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UPNO 35 sati godišnje, obvezno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sati predmet ili moduli, izbor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2. razred SŠ: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vezni predm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UPNO 35 sati godišnje, obvez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predmetno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rno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an-nastavno: projekti škole i društven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jednice u sklopu školskog kurikulu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UPNO 15 sati godišnje, obvez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4. razred SŠ;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rno – tematski usmjereno na struku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an-nastavno: istraživačk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i škole i društvene zajednice u sklopu školskog kurikulu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UPNO 35 sati godišnje, obvez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0:24:59Z</dcterms:created>
  <dc:creator>Sinisa</dc:creator>
  <dc:description/>
  <dc:language>en-US</dc:language>
  <cp:lastModifiedBy>nljelacic</cp:lastModifiedBy>
  <dcterms:modified xsi:type="dcterms:W3CDTF">2012-11-26T11:22:39Z</dcterms:modified>
  <cp:revision>357</cp:revision>
  <dc:subject/>
  <dc:title>Slide 1</dc:title>
</cp:coreProperties>
</file>